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797280" y="184140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662840" y="4251960"/>
            <a:ext cx="96775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 Black"/>
                <a:ea typeface="Arial Black"/>
              </a:rPr>
              <a:t>ECONOMIC GLOBALIZATION OF SPORT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 Black"/>
                <a:ea typeface="Arial Black"/>
              </a:rPr>
              <a:t>IICS 2010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227120" y="584280"/>
            <a:ext cx="3380400" cy="51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 anchorCtr="1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Arial Black"/>
              </a:rPr>
              <a:t>Global Sponsor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32496" t="20486" r="11571" b="25606"/>
          <a:stretch/>
        </p:blipFill>
        <p:spPr>
          <a:xfrm>
            <a:off x="7531200" y="2023920"/>
            <a:ext cx="4419360" cy="50245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714680" y="2448000"/>
            <a:ext cx="45082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The sporting good industry sponsors national federations, professional clubs and athletes in several for obvious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But now transnational corporations from outside the sport industry have entered sport sponsoring: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6133e"/>
                </a:solidFill>
                <a:latin typeface="Arial Bold"/>
                <a:ea typeface="Arial Bold"/>
              </a:rPr>
              <a:t>McDonald’s, Kodak, Philip Morris, Visa,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6133e"/>
                </a:solidFill>
                <a:latin typeface="Arial Bold"/>
                <a:ea typeface="Arial Bold"/>
              </a:rPr>
              <a:t>Fuji, Time-Life, Philips, Canon, Carlsberg, Sony, Toyota, Mercedes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495000" y="6081840"/>
            <a:ext cx="6668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o Sport must be very lucrativ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982600" y="1346040"/>
            <a:ext cx="7038000" cy="1827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 anchorCtr="1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6133e"/>
                </a:solidFill>
                <a:latin typeface="Arial Black"/>
                <a:ea typeface="Arial Black"/>
              </a:rPr>
              <a:t>Who was the first to sponsor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6133e"/>
                </a:solidFill>
                <a:latin typeface="Arial Black"/>
                <a:ea typeface="Arial Black"/>
              </a:rPr>
              <a:t>a major sporting event?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6133e"/>
                </a:solidFill>
                <a:latin typeface="Arial Black"/>
                <a:ea typeface="Arial Black"/>
              </a:rPr>
              <a:t>...in this case the 1928 Olympic Games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978440" y="439416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018880" y="990720"/>
            <a:ext cx="8436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Arial Bold"/>
                <a:ea typeface="Arial Bold"/>
              </a:rPr>
              <a:t>Since economic globalization of sports is uneven, a great number of countri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Arial Bold"/>
                <a:ea typeface="Arial Bold"/>
              </a:rPr>
              <a:t>are left aside. Less Developed and transition economies marginall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Arial Bold"/>
                <a:ea typeface="Arial Bold"/>
              </a:rPr>
              <a:t>participate in sport globalization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942120" y="2378520"/>
            <a:ext cx="1110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 other words...they miss out on the mone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915080" y="3289320"/>
            <a:ext cx="3708360" cy="37083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036840" y="7483680"/>
            <a:ext cx="145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  <a:ea typeface="Georgia"/>
              </a:rPr>
              <a:t>Wh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082960" y="571680"/>
            <a:ext cx="8839080" cy="1168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7c"/>
                </a:solidFill>
                <a:latin typeface="Arial Black"/>
                <a:ea typeface="Arial Black"/>
              </a:rPr>
              <a:t>Why Less Developed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7c"/>
                </a:solidFill>
                <a:latin typeface="Arial Black"/>
                <a:ea typeface="Arial Black"/>
              </a:rPr>
              <a:t>Countries can’t compe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1574640" y="5549760"/>
            <a:ext cx="10503000" cy="33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 Black"/>
              </a:rPr>
              <a:t>1.  The ratio of professional participants/population is usually lower than 1%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765440" y="6211800"/>
            <a:ext cx="8953200" cy="33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 Black"/>
              </a:rPr>
              <a:t>2.  Lack of money, teachers, and equipment for Physical Educ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1790640" y="6870600"/>
            <a:ext cx="5715000" cy="33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 Black"/>
              </a:rPr>
              <a:t>3.  Limited sport facilities and equip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1654200" y="7531200"/>
            <a:ext cx="5130720" cy="33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 Black"/>
              </a:rPr>
              <a:t>4.  Few world sport events host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1645920" y="8373960"/>
            <a:ext cx="971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133e"/>
                </a:solidFill>
                <a:latin typeface="Arial Bold"/>
                <a:ea typeface="Arial Bold"/>
              </a:rPr>
              <a:t>About 30 developed countries handle the organization of 96% of all world sporting event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133e"/>
                </a:solidFill>
                <a:latin typeface="Arial Bold"/>
                <a:ea typeface="Arial Bold"/>
              </a:rPr>
              <a:t>per year.  The rest of the world (170+ countries) host less than 5%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860640" y="1841400"/>
            <a:ext cx="5270760" cy="33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949560" y="711360"/>
            <a:ext cx="5105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Arial Black"/>
                <a:ea typeface="Arial Black"/>
              </a:rPr>
              <a:t>Remember the Quiz?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-91800" y="7290720"/>
            <a:ext cx="1317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Gill Sans"/>
                <a:ea typeface="Gill Sans"/>
              </a:rPr>
              <a:t>check your answers against the students near you. Do you have many of the same answer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2974680" y="1828800"/>
            <a:ext cx="70520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football (soccer) playe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basketball playe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baseball playe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winner of the Tour de Fran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winner of the Masters Golf Tournament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professional team with players from more than 1 nationality: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Lucida Grand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Lucida Grand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Lucida Grande"/>
              </a:rPr>
              <a:t>(what is the team and where are the players from?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an athlete who won a gold metal at the Beijing Olympics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a spokesperson for Nik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3 sponsors of any major sports teams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2 things Michael Jordan branded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989600" y="4550040"/>
            <a:ext cx="3013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Gill Sans"/>
                <a:ea typeface="Gill Sans"/>
              </a:rPr>
              <a:t>Why is tha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81000" y="4504680"/>
            <a:ext cx="383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PortagoITC TT"/>
                <a:ea typeface="PortagoITC TT"/>
              </a:rPr>
              <a:t>Globaliz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492360" y="4635360"/>
            <a:ext cx="6019920" cy="7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 Black"/>
              </a:rPr>
              <a:t>Adapted from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 Black"/>
              </a:rPr>
              <a:t>Andreff , Wladimire (1990) The Economic Globalization of Sport, University Paris 1 Pantheon Sorbonne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949560" y="476280"/>
            <a:ext cx="51055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Black"/>
                <a:ea typeface="Arial Black"/>
              </a:rPr>
              <a:t>HOW ABOUT A QUIZ TO START THE UNIT?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982800" y="2178000"/>
            <a:ext cx="54734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Black"/>
                <a:ea typeface="Arial Black"/>
              </a:rPr>
              <a:t>on a piece of paper answer the following 10 questions: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819080" y="3683160"/>
            <a:ext cx="70520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football (soccer) playe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basketball playe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baseball player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winner of the Tour de Fran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winner of the Masters Golf Tournament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1 professional team with players from more than 1 nationality: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Lucida Grand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Lucida Grand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Lucida Grande"/>
              </a:rPr>
              <a:t>(what is the team and where are the players from?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an athlete who won a gold metal at the Beijing Olympics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a spokesperson for Nik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3 sponsors of any major sports teams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ol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 Bol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ame 2 things Michael Jordan branded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407880" y="1986120"/>
            <a:ext cx="6248520" cy="5056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277040" y="755640"/>
            <a:ext cx="4849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Sport started to internationalize very long ago as “foreign” athletes attended the Greek Olympic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7365960" y="2273400"/>
            <a:ext cx="4940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 Italic"/>
                <a:ea typeface="Arial Bold Italic"/>
              </a:rPr>
              <a:t>International</a:t>
            </a: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 competitions emerged with the rise of modern industrial market capitalism: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  </a:t>
            </a:r>
            <a:r>
              <a:rPr b="0" lang="en-US" sz="1400" spc="-1" strike="noStrike">
                <a:solidFill>
                  <a:srgbClr val="a40800"/>
                </a:solidFill>
                <a:latin typeface="Arial Bold"/>
                <a:ea typeface="Arial Bold"/>
              </a:rPr>
              <a:t>Wimbledon tennis 1877, US Open tennis 1881, modern Olympics 1924, football World Cup 1930, the Masters Golf 1934, ski world Championship 1973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7536240" y="6726960"/>
            <a:ext cx="445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All significant sport events are broadcas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442280" y="4203720"/>
            <a:ext cx="4647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Increasingly related to commercial activity and profit-seeking compani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7467480" y="5448240"/>
            <a:ext cx="47498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Increasing numbers of professional (paid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athletes in international competiti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7467480" y="7670880"/>
            <a:ext cx="4749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0e2f"/>
                </a:solidFill>
                <a:latin typeface="Arial Bold"/>
                <a:ea typeface="Arial Bold"/>
              </a:rPr>
              <a:t>Professional clubs become transnational corporati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781200" y="1143000"/>
            <a:ext cx="4965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Gothic"/>
                <a:ea typeface="AppleGothic"/>
              </a:rPr>
              <a:t>Can you name some sports that have been ‘imported’ by foreign countrie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822240" y="3710160"/>
            <a:ext cx="5384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Gothic"/>
                <a:ea typeface="AppleGothic"/>
              </a:rPr>
              <a:t>Why do you think sports have become Globalized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749160" y="6273720"/>
            <a:ext cx="496584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Gothic"/>
                <a:ea typeface="AppleGothic"/>
              </a:rPr>
              <a:t>Why do some cultures or countries import certain sports but not other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515280" y="2066760"/>
            <a:ext cx="5981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rcRect l="14620" t="0" r="3820" b="0"/>
          <a:stretch/>
        </p:blipFill>
        <p:spPr>
          <a:xfrm>
            <a:off x="457200" y="2130480"/>
            <a:ext cx="6235560" cy="51163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371600" y="800280"/>
            <a:ext cx="93981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Hebrew"/>
                <a:ea typeface="Lucida Grande"/>
              </a:rPr>
              <a:t>Many sports have been ‘imported’ and given a new ho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8565480" y="2183040"/>
            <a:ext cx="33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Baseball in Japan and South Korea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8581320" y="3046680"/>
            <a:ext cx="32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Soccer (football) in North America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8654040" y="5637600"/>
            <a:ext cx="327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Skiing and hockey in Saudi Arabia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8521560" y="4737240"/>
            <a:ext cx="20448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Cycling in Africa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8496360" y="3873600"/>
            <a:ext cx="4711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American football and Frisbee in Europe,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863640" y="-12600"/>
            <a:ext cx="14717880" cy="9769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3174840" y="1714680"/>
            <a:ext cx="6654960" cy="1358640"/>
          </a:xfrm>
          <a:prstGeom prst="rect">
            <a:avLst/>
          </a:prstGeom>
          <a:solidFill>
            <a:srgbClr val="6e0500"/>
          </a:solidFill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 Black"/>
                <a:ea typeface="Arial Black"/>
              </a:rPr>
              <a:t>The most globalized sport in the world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 Black"/>
                <a:ea typeface="Arial Black"/>
              </a:rPr>
              <a:t>is football with 250 million registe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 Black"/>
                <a:ea typeface="Arial Black"/>
              </a:rPr>
              <a:t>participants in the world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3174840" y="5867280"/>
            <a:ext cx="6654960" cy="1359000"/>
          </a:xfrm>
          <a:prstGeom prst="rect">
            <a:avLst/>
          </a:prstGeom>
          <a:solidFill>
            <a:srgbClr val="6e0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 Black"/>
                <a:ea typeface="Arial Black"/>
              </a:rPr>
              <a:t>The market for football (practice, events,TV, shoes, etc.) involves over 500 million people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911040" y="3467160"/>
            <a:ext cx="4622400" cy="51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 anchorCtr="1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Arial Black"/>
              </a:rPr>
              <a:t>550 Billion U.S. Dollar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628560" y="1486800"/>
            <a:ext cx="10921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Grande"/>
              </a:rPr>
              <a:t>An athlete cannot run with money in his pockets. He must run with hope in his heart and dreams in his head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Grande"/>
              </a:rPr>
              <a:t>-Emile Zatope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851360" y="4216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2451240" y="7219800"/>
            <a:ext cx="7785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s just marveling at this here in Turkey. It's kind of how they put the t-butyl mercaptan smell in natural gas so you know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The global profits of imported and exported sporting goods in 2004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025880" y="495360"/>
            <a:ext cx="4952880" cy="1498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6767"/>
                </a:solidFill>
                <a:latin typeface="PortagoITC TT"/>
                <a:ea typeface="PortagoITC TT"/>
              </a:rPr>
              <a:t>Globalization of Produc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3637" t="2859" r="7827" b="0"/>
          <a:stretch/>
        </p:blipFill>
        <p:spPr>
          <a:xfrm>
            <a:off x="635040" y="2768760"/>
            <a:ext cx="4813200" cy="5179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934320" y="3479760"/>
            <a:ext cx="4508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Many firms proceed to Foreign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Direct investment (FDI) in the sporting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goods industry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in other developed countries (market-seeking FDI)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in developing and transition countries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(efficiency-seeking FDI) with low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production costs (unit labor costs)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400480" y="1905120"/>
            <a:ext cx="7683480" cy="40003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857680" y="7769160"/>
            <a:ext cx="7683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Nike, and Reebok relocate all production in developing countries through outward processing trade to Pakistani, Indonesian, and other subcontractors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4042080" y="6977160"/>
            <a:ext cx="49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Over 80% of soccer balls are manufactured in Asia.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1801080" y="6088320"/>
            <a:ext cx="9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old"/>
                <a:ea typeface="Arial Bold"/>
              </a:rPr>
              <a:t>Most sport shoes and sportswear are stitched in South-East Asia, North Africa and Latin America. 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3772080" y="254160"/>
            <a:ext cx="4952880" cy="1498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0680" tIns="0" bIns="0" anchor="t" anchorCtr="1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ortagoITC TT"/>
                <a:ea typeface="PortagoITC TT"/>
              </a:rPr>
              <a:t>Globalization of Produc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